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71716-F479-49BA-938C-31300C6AC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F9E98-76DB-4990-A554-EE8D6AA92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54478-8419-4B3F-92BC-451AF7EC7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B1926-97E6-44FE-AD00-BA0E7AA2E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867D43-E575-464D-A5F9-294F6651E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6991C-4113-4F3C-9255-4E76BB48D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83523-1B92-4F28-9496-978319177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3F33E-3408-45C1-9DB9-838DF8CF5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D1394-A47E-4F6F-A5F6-A4A5D6503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6A3FB-F5ED-4208-98A6-6A4E11CBB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C0E7E-5B02-46F4-8F8C-F93E5F156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6A918-0559-4DD5-8ED7-8BD751C83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1E998-8B23-4CD1-AED7-78E6AD0E1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89C07-3FBB-40A6-BC9C-4D0157C71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25AA4-AE85-4F65-9426-AD2588FF2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99BD3-1F8A-47E9-9DC6-C23BFFA61C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66CD17-82F2-46C9-895E-93D00B1590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9F8C7D-8FC7-4660-9EB9-C4CE2C0DA8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23141C-1752-4D55-BD6C-34C14F6880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8DF049-C700-45D2-A30F-72ECA640EB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796361-2BFC-458F-B296-C70D7D4EF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088979-396C-4393-8144-8589CA78A3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94250-52F4-4092-8704-B161A907B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96318F-3FC0-4961-ACF6-8470527105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759991-2809-4E90-8031-793A3D0B2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9C3F20-59E2-46E3-A004-45CA26F13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A86D28-9D5A-4D39-8CD8-6AABB29623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5A9462-0798-4E1A-8284-00B945F22F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55A0DB-0C64-4E7F-80CB-6018DC96AE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7CCE94-53BA-46EC-A926-8D17DE5428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827C5C-2C01-422F-BF9F-73F13C5A35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36E7A3-FC15-4A59-9169-9B2F48A7FD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23C8AA-F5F9-4B98-B437-DE0D4E39B2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D3E65-6DC8-4C90-9D79-DA60EDCC9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587720-5EC6-4159-80A3-C5418888D8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D48933-4CDD-4E04-A489-EFC457EA95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9F6A7C-9087-4410-9682-D4B04A39A6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6D0B9-AACD-4A90-AFE9-0FF616D6C8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1B34C8-DC5E-456B-91D7-66A79A618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8F9CC-7D7F-440A-B3F3-7AFFD317CE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AD885F-CD7A-4133-B4F7-D62FA75FA4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7E7A9C-245B-4143-ACD3-DEF57B5EEE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AC071E-A0A9-4493-80A6-00609D0C9E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27636-47D8-405E-9A2B-DADB5D143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F659C-9FA3-42A4-8808-00C84AD05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E8CD3-522E-49E5-8385-D8E06F726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4CFC6-928C-4720-939E-AD779AF70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17196-8989-4A8D-A4D5-E426670FB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DD8A-E44B-41F5-9497-369764C92C0E}"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34BB-0730-4001-B960-CECC61225B0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A5D7-69F4-4D76-925D-2E8CCF4C25A3}"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0627-9E7C-4466-A8FF-12AFF7D9BCF8}"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F3A7-499E-4C65-9B27-30CF6A6C006D}" type="datetime">
              <a:rPr b="0" lang="en-US" sz="1200" spc="-1" strike="noStrike">
                <a:solidFill>
                  <a:srgbClr val="d1eaee"/>
                </a:solidFill>
                <a:latin typeface="Arial"/>
              </a:rPr>
              <a:t>07/29/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DAEF-8BC5-4C5D-AF9E-CAE0CD59443C}"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2294-720C-4185-B4C2-293B9C4A95E6}" type="datetime">
              <a:rPr b="0" lang="en-US" sz="1200" spc="-1" strike="noStrike">
                <a:solidFill>
                  <a:srgbClr val="045c75"/>
                </a:solidFill>
                <a:latin typeface="Arial"/>
              </a:rPr>
              <a:t>07/29/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6CA3-EE85-4740-B05A-3369E2FE582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F45A-6330-44D8-A036-2C83D610964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33E5-F71E-4CD0-AB09-F43EC11726C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3870-78FB-4250-8E39-180A3D81D78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295F-DE17-4627-9F12-C5BAE157D9F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8D4A-9562-43B7-AE98-FE9B6310AC3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DB48-AAD7-460A-A32D-73A7B8D628E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A3B5-D40E-433E-91E6-F370127EF86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A838-F000-462E-AA56-00912D05B4D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565C-8CA7-45EF-BA5F-8C9D8096680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3F94-E8EA-4B45-AD52-34C7798B37F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C24F-3376-48F0-A828-C1C18ABB04F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544B-7AAA-4B87-9F2B-2C3709CB1BB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1E25-9E47-41CA-A43A-5F4A89A08E6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