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132FE-509D-4AF7-A096-1A0B42F1C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8D0CD-B2D7-4298-9FED-57D0C6508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C7305-D638-429D-A86B-914F83885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08951-352A-4AC4-9059-7A44E067A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22DBB8-FDA9-4B1E-BA18-A1088B9BCF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A2D28-645A-4099-B121-A6452DF1D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1FF2A-FB26-4F0A-830E-6E7870968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E5063-36C5-455B-8F52-53AEBAEA4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EE69B-8BEB-4479-BE40-6E0CE54A7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6830C-AEC0-4FE3-A504-CCDE397BA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C7EFE-F3AD-4F42-93F3-D8177A207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33B33-BF68-465A-9F6C-19D13251F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C2E3F-4ED8-43AE-BA8E-89EE7B2CD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71C2E-5AB8-46F6-90C7-B478CEC4A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CA9CD-B9A3-4794-8D5A-3047EEB0A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05F59E-0AD9-4F35-9B05-C55890E102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33A030-6A7C-435A-BE6A-2E9C0D350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8C808E-8D2E-4613-B25D-F08738BD4C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76521C-B4CC-40C4-B5F6-DA08827D79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44B867-5EB0-4C85-987B-F22289C306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F69B5E-57EF-4899-A670-B31D776B7A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3EF7CB-DC44-4673-872C-F3F94CB573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DABEB-ABC3-465D-B641-0B8A87ABA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403B2C-C5D8-4C2A-B917-C1F87B97AD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BFC196-236A-467E-8460-222F4D4197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DF3A94-09FF-4207-84FD-17675E270D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454316-AFC7-4BA9-9C77-B09B7C47BF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D4361C-1021-4956-A336-186160AE80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0071DF-969B-42AD-A363-560889F84C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8FD9BB-6D44-4AE2-AF42-5A76D263FE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B27AE1-33B0-4FDE-8144-0BC960758C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4CA25D-AD4A-43B4-97A2-AE5A474464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185D3A-F32B-4E9C-AB98-CE3F947B5A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1BFDE-F6BB-41A7-93E6-0C70BCB61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612B1A-B090-49F5-BF0A-5F08E8DD8C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22C561-57D7-4403-8785-F64E25DA77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32CF1B-38F9-45D6-BD3C-4FE6C90C25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EBA667-E076-404C-A6E4-D81165AF2C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AACDA2-25F7-4840-BBF8-4BF65B6DE9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11AB10-68C9-4ABD-890E-096AAB7BA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FFACD7-3933-4875-A270-B953BE41C7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806DCC-CFEB-4F43-8B61-2636292CFD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C08E9B-DA14-4F26-807E-BD923B745C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A0990-0E25-4D33-8318-AA696B1A7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4ED68-B5C3-4250-803D-DDB8D591D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8EFCB-1966-4370-9A6E-2D458AA1B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EDAD8-C146-4E8D-B8A5-5BD0DA343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C19B6-A3C5-4DF5-B997-0D36FD99B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18BE6-3F7E-4B6B-8CF3-AF70A764CD1B}"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C9F8-89A1-4109-B604-F5C02138EED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2E4DF-7F32-4327-9CC2-76E831E67949}" type="datetime">
              <a:rPr b="0" lang="en-US" sz="1200" spc="-1" strike="noStrike">
                <a:solidFill>
                  <a:srgbClr val="d1eaee"/>
                </a:solidFill>
                <a:latin typeface="Arial"/>
              </a:rPr>
              <a:t>07/31/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64770-9687-4A9A-8259-DA2B604B4EF2}"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F25E-C9F1-4EFB-9276-55CF1FE68995}" type="datetime">
              <a:rPr b="0" lang="en-US" sz="1200" spc="-1" strike="noStrike">
                <a:solidFill>
                  <a:srgbClr val="d1eaee"/>
                </a:solidFill>
                <a:latin typeface="Arial"/>
              </a:rPr>
              <a:t>07/31/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AEC69-2076-44BE-9F4F-3D501E033CBC}"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63CD2-B0A8-4167-AD9B-22B291FDA25E}"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6773-54DB-43A5-AC99-F6A66B4B92A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23F4-B935-43F1-A563-79C76007902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ACE6-E372-44F4-9AA5-56EDBFAB477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3180-1EB2-419C-9E9C-A9B09BDF5B5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33EB-C6D1-4BE0-A7B1-1A02C5F54CE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3E653-D5F4-492D-8CE1-B8D8225CF00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33424-BAEF-4D9D-AA45-89F374AFA25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F55AC-06B6-4D72-B1EB-72320304932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F27D7-BC12-490E-B803-91855B3C164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DB21-BD45-4B15-B2C9-D1324F6D3A2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D958-DDC8-41B2-AA73-C90C943CEAB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04C8-D416-4F7D-907D-0E868EA17A3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64283-E160-4D12-A9FF-69293237488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DBE0-0566-4CCE-8ABC-02796A2F010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